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9495-D3E4-4175-BDD5-9AB764CDF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6582-918E-40BB-A856-61C47E54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03FA-E22C-4561-8F81-C30B083F2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D8FA-3E7A-4CDF-9016-8B1C73036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151A-6A31-4B1A-A36E-725A3E66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B481-FD0F-40A6-A8EC-5A928563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9E9F-BAD0-4C71-A675-9B679B38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79E8-1B89-406F-927E-ABCA4685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6E53-401E-4F1F-A199-8E829249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9E79-39B4-4947-9E52-5223161B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A13A-BF56-4CC9-B942-FBA1DBBA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A0BB-A6C5-4E87-B7CD-2E9A32F1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0384-F901-46B4-BE43-67B8D799E9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nts and Settings\wanda.williams\My Documents\My Pictures\Microsoft Clip Organizer\j032374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76440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2"/>
          <p:cNvSpPr/>
          <p:nvPr/>
        </p:nvSpPr>
        <p:spPr>
          <a:xfrm rot="16200000">
            <a:off x="4197960" y="2654640"/>
            <a:ext cx="4729320" cy="3676680"/>
          </a:xfrm>
          <a:prstGeom prst="flowChartDelay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a5a5a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5562720" y="40384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lies Scroo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5253120" y="522288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 life was a mista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0" descr="C:\Documents and Settings\wanda.williams\Local Settings\Temporary Internet Files\Content.IE5\LX2YN4OC\MCBD07752_0000[1]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2"/>
          <p:cNvSpPr/>
          <p:nvPr/>
        </p:nvSpPr>
        <p:spPr>
          <a:xfrm rot="16200000">
            <a:off x="5598000" y="3164400"/>
            <a:ext cx="3662640" cy="2667240"/>
          </a:xfrm>
          <a:prstGeom prst="flowChartDelay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a5a5a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9:25:11Z</dcterms:created>
  <dc:creator>wanda.williams</dc:creator>
  <dc:description/>
  <dc:language>en-US</dc:language>
  <cp:lastModifiedBy>Arnith</cp:lastModifiedBy>
  <dcterms:modified xsi:type="dcterms:W3CDTF">2011-12-01T22:44:50Z</dcterms:modified>
  <cp:revision>7</cp:revision>
  <dc:subject/>
  <dc:title>Slide 1</dc:title>
</cp:coreProperties>
</file>